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936-E473-41A4-84B9-AAE1E9E6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FE5-98A7-4A0A-BFEC-79FD2476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14C-0845-43D8-9E7C-86269379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2E9-A57E-411B-A1B6-E92A4802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F483-8D94-4688-A166-DD481615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88F4-9B65-442E-B47C-A7DE762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71A-DF11-4A02-9B27-45F6C72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A834-5FC9-432E-AFCC-384C910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5301-4A2A-4BDD-997E-8217F3F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E74-FDC1-410C-AE61-7992E336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1D58-969D-4993-B8FC-63EC432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1F8-805F-4A60-A37E-78F553D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9252-DE4E-427A-84BF-9326F95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9BF8-BE5D-46F5-84AD-CB39E67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7D62-F30F-472B-B441-7C8A4CF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C945-179D-4BD3-A511-AEE224F5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53D-25BF-4A08-B7DC-A45A3E4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35-FE04-44E3-B513-2E771E5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C7E-52F4-4559-9C2A-EE0259D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B08-33A6-4580-BCB6-C7B6FB8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251-E347-4717-B80F-7A7BDAE3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14B-4F74-4D79-86B5-9F773C3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A97-99C4-43CC-92D1-19A01E5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518-20F1-41C0-8BFD-5B1D112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5D2-E331-44CC-8B98-B908B5F6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13D-0DE1-4037-8076-A233B5C45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n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’ve been, where you’re go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chool Policies &amp; Educational Philosoph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school policies affect teaching and dealing with religion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educational philosophies address in regards to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educational philosophy about religion and issues with it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stay informed on 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address issues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: ev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s you make affect out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ourt Ca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hey affect the future of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politics affect the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political issues affect by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495680" y="358128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the futur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ital punish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lobal war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lligent desig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rth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y marri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lfare polic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litary policy and foreign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urrent Ev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s in the world affects how we study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religious literacy help students better understand world ev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cy of World Relig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9/11 apathy, ignorance, limited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religion as subject ma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about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n in world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and Values in Edu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origins of Wester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rates, Aristotle, Aqu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church schools – morality, values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fter Virt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981) by Alasdair MacIntyre book proposes an Aristotelian account of practice and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education in the practice of shared virtues can itself be a viable practice in our plural society.” Katsushige Katay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 for 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world religions literacy to social studies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moral values education to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bbyist and Special Interest group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in textbook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ta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45:52Z</dcterms:created>
  <dc:creator>Vanessa Jakse</dc:creator>
  <dc:description/>
  <dc:language>en-US</dc:language>
  <cp:lastModifiedBy>Campus Computing Sites</cp:lastModifiedBy>
  <dcterms:modified xsi:type="dcterms:W3CDTF">2009-07-24T17:09:14Z</dcterms:modified>
  <cp:revision>6</cp:revision>
  <dc:subject/>
  <dc:title>Religion and the Public Schools</dc:title>
</cp:coreProperties>
</file>